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13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A5F-A354-471D-805C-4081822D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B71-A65D-435D-AC4A-DC8C1028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41B-F667-42E1-9627-89D409BA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B6E-1A9F-4A49-AC13-26DA2D5C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0B2A-786E-4CB9-B6DB-73FE2E7F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189C-939F-4698-9AD3-72BF5124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26B0-E304-41B2-8FE0-5416470B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854F-2543-44DC-8E69-0042E2AF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D4AF-F8B9-4F00-9ED5-2D6D7F8A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A7BF-3023-4872-9902-E8CCF6BE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9ECB-B2F0-4555-97AA-0BCBA330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313-A087-4112-BC3E-E70A2829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A125-F5A4-486D-B3F7-5AAE1A81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2F93-7B84-4FCD-802F-745AA5A5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E57D-4094-49DC-92DE-495803FD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C49E-17AD-4338-8D19-E3F99CBB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29CF-34D9-4165-9819-9F366D66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1DDC-C4D1-4560-AC1F-B26C918D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F78-0C37-447C-999E-F645F93E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FAE-CFA9-4D9A-AAF2-F0F9B368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A5A-EC9D-4634-B996-3E9137CD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4B2-8B59-4EC6-A06F-8851F9BD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B09-BB61-4249-89B5-27F87352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41B-B5C1-4CC9-989F-A2FBEDC8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0730-DAD9-42F7-893A-AFE7D2022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3EAA-1409-4077-A5CB-F3964C685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rtistshelpingchildren.org/kidscraftsactivitiesblog/wp-content/uploads/2010/03/sewing-box-square.pn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 rot="820200">
            <a:off x="5486040" y="0"/>
            <a:ext cx="2800440" cy="26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OP!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 rot="360600">
            <a:off x="2133720" y="2437920"/>
            <a:ext cx="4647960" cy="26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CYCLE!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 rot="20667600">
            <a:off x="685800" y="533160"/>
            <a:ext cx="2205000" cy="2344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086600" y="4114800"/>
            <a:ext cx="15350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ycling is very important to everybody, but why should you recyc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a lot of things you can do to help.  When you recycle you save energy. This energy can be used to power things such as, T.Vs, video games, computers, and mo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28600"/>
            <a:ext cx="44956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YCLING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1600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ycling paper products saves the need to hurt forests, swamps, rivers, lakes and other natural plac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can recycle by using the back of a sheet of paper when your done with the fro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can also ask your teacher if your class can use smencils instead of regular colored penci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858000" y="4876920"/>
            <a:ext cx="1981080" cy="1838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62120" y="4876920"/>
            <a:ext cx="186840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352680" y="2133720"/>
            <a:ext cx="210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DU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other way you can recycle is by practicing the three R’s. Reduce, reuse, and recycle. You can practice the three R’s at home, at school, and in your neighborhoo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c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CYCL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y recycling paper you don’t need or you are done wi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c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DUC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by purchasing items with little or no pack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c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US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y using a thermos instead of using a plastic water bottl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ycling at 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cycle pap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you throw your paper away in the recycle bin in your classroom and not in the garbage c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ycle juice box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a juice box in school or at home bring them into school and recycle them in the juice box container by the of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191120" y="3657600"/>
            <a:ext cx="16761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re are a lot of fun things you can make from recycled material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0384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4800600" y="4495680"/>
            <a:ext cx="3733920" cy="21830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7086600" y="1447920"/>
            <a:ext cx="1763640" cy="2895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304920" y="1600200"/>
            <a:ext cx="2838240" cy="2131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3505320" y="1828800"/>
            <a:ext cx="32097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cycling helps the earth so remember to recycle everyday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283824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5:40:53Z</dcterms:created>
  <dc:creator>mes5c</dc:creator>
  <dc:description/>
  <dc:language>en-US</dc:language>
  <cp:lastModifiedBy>mes5c</cp:lastModifiedBy>
  <dcterms:modified xsi:type="dcterms:W3CDTF">2010-12-02T18:47:17Z</dcterms:modified>
  <cp:revision>9</cp:revision>
  <dc:subject/>
  <dc:title>Slide 1</dc:title>
</cp:coreProperties>
</file>